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332-DA6F-4F31-A3F5-92A410966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B1CA-0E29-4FF8-95D5-E8F4893FA4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C49-C6D0-4620-8DCB-1BE7121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2CC-FD40-4957-A8DD-14F4E71C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E21-777E-4984-88CC-57727088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561-BA8F-4463-BDC2-F6CEDD03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B24-B882-4F5C-8359-C99B9D6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828-D388-497B-8619-E9BF210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D57-2E36-4C58-94F0-65C4731C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456-511F-49EC-BC39-4BF94637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EA2-64AC-47E7-9C56-1FCC5D3B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658-96A0-459B-8E7E-9DD6B34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A0E-6DB9-493C-A4A0-BAE128B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1F4-2E29-435F-BE61-CF5A2107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9F74-7D64-4874-BEDA-A415ADF2A7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8:25:13Z</dcterms:modified>
  <cp:revision>32</cp:revision>
  <dc:subject/>
  <dc:title>What Goes Up Must Come Down</dc:title>
</cp:coreProperties>
</file>